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A1D-9BE7-4555-BD41-AD8BAE3F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0F3-BC08-4134-8683-B2495CAA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623-B889-462A-850C-89EA9E6D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EE5-7F43-42C9-AA71-E800C3DA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52E-9369-4FA0-918C-31F1CD76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BD1-FA43-4FB7-92D1-8C25FC19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774-35C7-4A82-9903-56DE56DA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E96-E178-4DC5-B20F-57915B1B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0D3-0875-4394-BAF4-49109016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D37-5289-49B8-9656-29F9A94C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346-546F-42C4-93A0-27A86B9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5A5-BC7F-492A-B83A-95A608E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6232-C0B6-4B99-9AB9-E389C3B58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slade i Räddningstjäns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3-01-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4 Laho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 Knä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2828880" cy="276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05280" y="3157560"/>
            <a:ext cx="133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er på väg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Räddningstjänste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wedbank har en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rbetslöshetsförsäkring som täcker för en viss del av den förlorade arbetsförtjän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Dock gäller inte denna om ett arbete finns vid sidan 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6288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ågor????????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äddningstjänsten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332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er fö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yssl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ll ha varit anställd minst 1 å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sättningen får ej överstiga 7680kr/mån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ll arbeta heltid vs ej avdrag för larm eller att man inarbetar d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vningar/beredskap räknas som bisyssla men inte l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11592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ätt till ersätt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n arbetslöse skall lämna intyg om att rtj omedelbart kan befria den anställde från tjänstgöringsskyldighet i samband med att  den anställde blir erbjuden ett annat arbete som inte kan förenas med den nya tjän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år ej vakta mer än sin ordinarie 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04240" y="0"/>
            <a:ext cx="147780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sätt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 högsta ersättningen från a-kassan är 680kr/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5 larm på 5 olika dagar dagt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22x5=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340=1700       totalt     2810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ga 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680= 3400       totalt     3400k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skillnad 590kr/vecka i detta 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59640" y="3789360"/>
            <a:ext cx="1095120" cy="1609560"/>
          </a:xfrm>
          <a:prstGeom prst="rect">
            <a:avLst/>
          </a:prstGeom>
          <a:ln w="0">
            <a:noFill/>
          </a:ln>
        </p:spPr>
      </p:pic>
      <p:pic>
        <p:nvPicPr>
          <p:cNvPr id="57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tt larm per dag, räknas som en halv arbetad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rsättningsperioden är 300 dagar för alla, både hel- och deltidsarbetslösa. Men bara 75 av dem kan användas för ersättning när du är deltidsarbetslös. Den begränsningen kallas 75-dagarsregeln. Om du under en vecka både får ersättning från a-kassan och jobbar deltid räknas de dagar du får ersättning som deltidsdagar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5300640"/>
            <a:ext cx="1800000" cy="1403280"/>
          </a:xfrm>
          <a:prstGeom prst="rect">
            <a:avLst/>
          </a:prstGeom>
          <a:ln w="0">
            <a:noFill/>
          </a:ln>
        </p:spPr>
      </p:pic>
      <p:pic>
        <p:nvPicPr>
          <p:cNvPr id="61" name="Räddningstjänsten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333440" cy="54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5-dagars regel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xempel:Kalle blir arbetslös och påbörjar en ersättningsperiod som innehåller 300 dagar. 75 av dem kan användas som deltidsdagar.Vecka 1: Kalle är helt arbetslös och får ersättning 5 dagar.När veckan är slut har Kalle 295 ersättningsdagar kvar i perioden. Han kan fortfarande använda 75 dagar av de 295 som deltidsda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Vecka 2: Kalle arbetar deltid 3 dagar och får ersättning 2 dagar. Dessa 2 ersättningsdagar räknas som deltidsdagar.När veckan är slut har Kalle 293 ersättningsdagar kvar i perioden. Men eftersom han har använt 2 deltidsdagar kan han nu bara använda 73 av de 293 dagarna som deltidsdagar.      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äddningstjänst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332000" cy="54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r länge räcker dagar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8000" y="587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r länge räcker dagar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empel vid arbete 2 dagar per vakt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räcker de 75 dgr i 1 år och 21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 300 dagarna i 1 år och 17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empel  vid arbete 4,5 dagar per vakt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ar de 75 dagarnas slut efter 49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äddningstjänst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332000" cy="542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4941720"/>
            <a:ext cx="390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sättning för deltidsarbe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 som stämplar upp till heltid kan få ersättning under högst 75 dagar inom en period på totalt 300 ersättningsda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är dessa dagar är förbrukade kommer man i ett läge där man måste välja mel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idsarbetet och ingen mer a-k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ga upp sin deltidsanställ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308720" y="4705200"/>
            <a:ext cx="1629000" cy="2152800"/>
          </a:xfrm>
          <a:prstGeom prst="rect">
            <a:avLst/>
          </a:prstGeom>
          <a:ln w="0">
            <a:noFill/>
          </a:ln>
        </p:spPr>
      </p:pic>
      <p:pic>
        <p:nvPicPr>
          <p:cNvPr id="74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 har vi jobbat och hur jobbar vi vid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a-ka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riksdagsledamö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SK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till KLK :s ledningsgru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KS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jänsteskrivelse till kommu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64280" y="4724280"/>
            <a:ext cx="1798560" cy="1949400"/>
          </a:xfrm>
          <a:prstGeom prst="rect">
            <a:avLst/>
          </a:prstGeom>
          <a:ln w="0">
            <a:noFill/>
          </a:ln>
        </p:spPr>
      </p:pic>
      <p:pic>
        <p:nvPicPr>
          <p:cNvPr id="78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2:55:14Z</dcterms:created>
  <dc:creator> </dc:creator>
  <dc:description/>
  <dc:language>en-US</dc:language>
  <cp:lastModifiedBy>LADT</cp:lastModifiedBy>
  <dcterms:modified xsi:type="dcterms:W3CDTF">2013-01-08T10:26:50Z</dcterms:modified>
  <cp:revision>10</cp:revision>
  <dc:subject/>
  <dc:title>Varslade i Räddningstjänsten 2013-01-07</dc:title>
</cp:coreProperties>
</file>